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DA4C-4B5E-4D3B-8EB6-0612842F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256-908D-450D-B1E0-4946E250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BDA1-7117-4A08-BEE5-C0EEC0A2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561C-B460-4B60-B935-83EE89B7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F36B-7F79-4DE0-ACBE-6468B18D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34BA-40F1-4542-89A7-AFF978C9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1D47-7502-4BFE-BC29-C4149AFC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4273-1281-44E6-8679-9555739B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D234-9E87-4898-80AF-0D54C9F6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D923-4DD4-45CF-9A5A-EA49A131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4A38-A4A2-467B-9A0E-42706993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CCAC-BF5E-43B2-9D96-D1AF89DD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6B3E-9EC3-4591-8997-F5F6CD25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C5CE-06F8-4E3D-9D40-0FD049D8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212B-8F87-45AF-A57F-410A506E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53CD-ACDE-46DE-9331-8CEC0BD5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842F-1E3C-4672-8D11-26662162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8A6C-4955-44A3-A31E-2ADBA903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BA0-8E69-4090-AAA8-A733EB16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8EE-59B8-4875-8EBF-B3E5216C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63E6-4345-4E76-83E4-C6B63926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4367-00C8-4361-AC32-6CF032EA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CA41-4E97-49C9-AD4E-1FAB167E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CEC6-4963-4F1F-8BFD-AD3D88A5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84AE-EB25-4B62-B280-5CAAC0BCB5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674F-443D-4248-901C-FE98624BB8E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Jephthah and the Ephraimit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ges 11:34 - 12: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87-9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581280"/>
            <a:ext cx="7162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xt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bz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d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irth of Sam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view from last lesson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under oppression from the Ammonites for 18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monites mustered their forces to wipe out the Israelites east of the Jord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of Gilead asked Jephthah to lead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gotiations between Jephthah and Ammonites fai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: “Let Jehovah judge between u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view - Jephthah’s Vow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1:29-3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e vow to the Lord for succes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will deliver the children of Ammon into my hands, th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hatsoev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hould come out to meet me, when I return from winning the battle, shall surely be the Lord’s and “I will off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p for a burnt offering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mmonites routed with a great slaughter  v32-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returned to his house in Mizpeh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ephthah’s Vow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1:34-4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daughter, his only child, came out to rejoice with him  v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heart-stricken and brought low  v3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daughter asked for a respite  v36-3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months to lament her virginity with her companions upon the mountai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 fulfilled his vow  v39-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ephthah vs. Ephraimite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2:1-6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hraimites challenged Jephthah’s right to go to war against the Ammonites without their consent and participation.  v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vious and bitter against h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atened to burn him in his own hou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charges denied  v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given the glory for the victory  v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ephthah vs. Ephraimite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2:1-6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hraimites with another false charge  v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ileadites were fugitives (deserters) of Ephra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ight broke out – Ephraimites ran  v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leadites blocked the ford of the Jordan  v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one who crossed the river asked if they were an Ephraimites  v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ephthah vs. Ephraimite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2:1-6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se who said “No” were tested by being asked to pronounce the word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hib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leth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phraimites would say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ib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leth”, which exposed them  v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42,000 men died by the sword  v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3429000"/>
            <a:ext cx="190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phraimites crossed Jordan to compl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4419720"/>
            <a:ext cx="335304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358128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ileadites blocked ford of Jordan as they r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028840" y="4267080"/>
            <a:ext cx="21337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ephthah Died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2:7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judged “Israel” for six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ed and buried in Gil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 in the “faith chapter”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Heb. 11:32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7:47:55Z</dcterms:created>
  <dc:creator>Frank D Vines</dc:creator>
  <dc:description/>
  <dc:language>en-US</dc:language>
  <cp:lastModifiedBy>Frank D Vines</cp:lastModifiedBy>
  <dcterms:modified xsi:type="dcterms:W3CDTF">2005-02-23T23:59:03Z</dcterms:modified>
  <cp:revision>15</cp:revision>
  <dc:subject/>
  <dc:title>Jephthah</dc:title>
</cp:coreProperties>
</file>